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3B6F-ED56-41F4-BF72-3A6FF976E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67E2-5CA1-480B-A831-F74447BCF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D471-7F8A-46F9-8080-7A15BE331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27FD-65FF-421A-9C9C-1106C0CE7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006D3-224D-4420-9CAC-A8064634C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E50EF-FD25-49E7-9B3B-951416990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2EA3E-ACAF-4ECE-81B6-FD11BD04B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319A6-F22A-49CC-B071-7AB672017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D970E-ED54-4355-9E21-C15BD2348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EA22C-D5BD-4449-936F-8E479149A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75148-A245-4B77-B5A2-5E8623956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FA3B-0CCF-402C-8326-8FA0DFB91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9F051-EA0F-47FB-A3E3-F7C5387F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E9C08-B47F-4B16-9112-20F8829F3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A7DA4-6930-429A-BC2A-6C113FCB4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0BBE3-5AFE-4915-8E78-6E55CBF90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19248-E501-4E1F-AA03-9FD0CBBEF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9569-B091-4AB3-A990-4CA85229C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5F3E-6F2A-4ABD-91A1-EDD191707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C66C-8F4E-404D-B26F-421DCFB67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2430-74F7-4FE1-9673-1BE9C4A5C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8617-055E-441A-9918-F4B0F012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DB22-A214-4C19-BA25-AA0055972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CD98-C2AC-447C-A6AD-164D9FC9D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53DE7-D833-46FF-9456-9C22854A9301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grpSp>
        <p:nvGrpSpPr>
          <p:cNvPr id="73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74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5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6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7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8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9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0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1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2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3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4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5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6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7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8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A6CC8-2F99-4A93-9A82-A32161028520}" type="slidenum">
              <a:rPr b="0" lang="pl-PL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3335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700" spc="-1" strike="noStrike">
                <a:solidFill>
                  <a:srgbClr val="ffffcc"/>
                </a:solidFill>
                <a:latin typeface="Arial"/>
              </a:rPr>
              <a:t>ISTRUKCJA OBSŁUGI kuchenki mikrofalowej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9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cc"/>
                </a:solidFill>
                <a:latin typeface="Arial"/>
              </a:rPr>
              <a:t>10. Po wyjęciu żywności wyłącz kuchenkę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339640" y="3284280"/>
            <a:ext cx="259236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4" name="Picture 5" descr="cb58c2cf62002c20fdf5109141d191b3"/>
          <p:cNvPicPr/>
          <p:nvPr/>
        </p:nvPicPr>
        <p:blipFill>
          <a:blip r:embed="rId1"/>
          <a:stretch/>
        </p:blipFill>
        <p:spPr>
          <a:xfrm>
            <a:off x="1258920" y="2276640"/>
            <a:ext cx="67197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56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cc"/>
                </a:solidFill>
                <a:latin typeface="Arial"/>
              </a:rPr>
              <a:t>11. Gdy po podgrzaniu żywności kuchenka będzie brudna </a:t>
            </a:r>
            <a:br>
              <a:rPr sz="4000"/>
            </a:br>
            <a:r>
              <a:rPr b="0" lang="pl-PL" sz="4000" spc="-1" strike="noStrike">
                <a:solidFill>
                  <a:srgbClr val="ffffcc"/>
                </a:solidFill>
                <a:latin typeface="Arial"/>
              </a:rPr>
              <a:t>przetrzyj ją od środka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6" name="Picture 5" descr="9979"/>
          <p:cNvPicPr/>
          <p:nvPr/>
        </p:nvPicPr>
        <p:blipFill>
          <a:blip r:embed="rId1"/>
          <a:stretch/>
        </p:blipFill>
        <p:spPr>
          <a:xfrm>
            <a:off x="684360" y="3860640"/>
            <a:ext cx="3357360" cy="24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Arial"/>
              </a:rPr>
              <a:t>12. Moja opinia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eaeaea"/>
                </a:solidFill>
                <a:latin typeface="Verdana"/>
              </a:rPr>
              <a:t>Uważam, że kuchenka mikrofalowa  jest bardzo przydatna w kuchni -ponieważ dzięki niej można szybko przygotować ciepły posiłek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9" name="Prostokąt 1"/>
          <p:cNvSpPr/>
          <p:nvPr/>
        </p:nvSpPr>
        <p:spPr>
          <a:xfrm>
            <a:off x="2292480" y="537372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eaeaea"/>
                </a:solidFill>
                <a:latin typeface="Verdana"/>
              </a:rPr>
              <a:t>Dziękuję!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Arial"/>
              </a:rPr>
              <a:t>To jest kuchenka mikrofalow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419640" y="2420640"/>
            <a:ext cx="158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3" name="Picture 5" descr="5002-1"/>
          <p:cNvPicPr/>
          <p:nvPr/>
        </p:nvPicPr>
        <p:blipFill>
          <a:blip r:embed="rId1"/>
          <a:stretch/>
        </p:blipFill>
        <p:spPr>
          <a:xfrm>
            <a:off x="1692360" y="1728720"/>
            <a:ext cx="597528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Arial"/>
              </a:rPr>
              <a:t>dawniej i dziś…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210492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eaeaea"/>
                </a:solidFill>
                <a:latin typeface="Verdana"/>
              </a:rPr>
              <a:t>Kiedyś kuchenka mikrofalowa była wyznacznikiem luksusu i bogactwa, dziś znaczna część gospodarstw domowych posiada kuchenkę mikrofalową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Arial"/>
              </a:rPr>
              <a:t>na początek - ostrzeżeni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-324000" y="1599840"/>
            <a:ext cx="986472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 u="sng">
                <a:solidFill>
                  <a:srgbClr val="ffff29"/>
                </a:solidFill>
                <a:uFillTx/>
                <a:latin typeface="Bodoni MT"/>
              </a:rPr>
              <a:t>PROMIENIOWANIE MIKROFALOWE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należy unikać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eaeaea"/>
                </a:solidFill>
                <a:latin typeface="Bodoni MT"/>
              </a:rPr>
              <a:t>NAPROMIENIOWANIA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eaeaea"/>
                </a:solidFill>
                <a:latin typeface="Bodoni MT"/>
              </a:rPr>
              <a:t>Z GENERATORA MIKROFALOWEGO!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cc"/>
                </a:solidFill>
                <a:latin typeface="Arial"/>
              </a:rPr>
              <a:t>Kolejne kroki jak należy postępować: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9" name="Picture 5" descr="ANd9GcTJv3ppg_l4eJpYsktYqzEpELdm8h8_3mONArUmndcXi5xvOD060MSLUvSkjg"/>
          <p:cNvPicPr/>
          <p:nvPr/>
        </p:nvPicPr>
        <p:blipFill>
          <a:blip r:embed="rId1"/>
          <a:stretch/>
        </p:blipFill>
        <p:spPr>
          <a:xfrm>
            <a:off x="2987640" y="3402000"/>
            <a:ext cx="3456000" cy="313848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"/>
          <p:cNvSpPr/>
          <p:nvPr/>
        </p:nvSpPr>
        <p:spPr>
          <a:xfrm>
            <a:off x="709560" y="177336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cc"/>
                </a:solidFill>
                <a:latin typeface="Arial"/>
              </a:rPr>
              <a:t>1. Włożyć wtyczkę do gniazdka elektrycznego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942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cc"/>
                </a:solidFill>
                <a:latin typeface="Arial"/>
              </a:rPr>
              <a:t>2. Po włożeniu żywności do odpowiedniego naczynia ustaw na </a:t>
            </a:r>
            <a:r>
              <a:rPr b="0" lang="pl-PL" sz="4000" spc="-1" strike="noStrike" u="sng">
                <a:solidFill>
                  <a:srgbClr val="ffffcc"/>
                </a:solidFill>
                <a:uFillTx/>
                <a:latin typeface="Arial"/>
              </a:rPr>
              <a:t>szklanym</a:t>
            </a:r>
            <a:r>
              <a:rPr b="0" lang="pl-PL" sz="4000" spc="-1" strike="noStrike">
                <a:solidFill>
                  <a:srgbClr val="ffffcc"/>
                </a:solidFill>
                <a:latin typeface="Arial"/>
              </a:rPr>
              <a:t> talerzu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2" name="Picture 6" descr="zdj_5f25b58075d0a9b2438b74f6b349bb97"/>
          <p:cNvPicPr/>
          <p:nvPr/>
        </p:nvPicPr>
        <p:blipFill>
          <a:blip r:embed="rId1"/>
          <a:stretch/>
        </p:blipFill>
        <p:spPr>
          <a:xfrm>
            <a:off x="1619280" y="3059280"/>
            <a:ext cx="568944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85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cc"/>
                </a:solidFill>
                <a:latin typeface="Arial"/>
              </a:rPr>
              <a:t>3. Przy użyciu pokręteł regulacji możemy ustawić żądaną moc mikrofal i czas 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700000" y="2852280"/>
            <a:ext cx="208764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5" name="Picture 5" descr="f06"/>
          <p:cNvPicPr/>
          <p:nvPr/>
        </p:nvPicPr>
        <p:blipFill>
          <a:blip r:embed="rId1"/>
          <a:stretch/>
        </p:blipFill>
        <p:spPr>
          <a:xfrm>
            <a:off x="1979640" y="2565360"/>
            <a:ext cx="464832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cc"/>
                </a:solidFill>
                <a:latin typeface="Arial"/>
              </a:rPr>
              <a:t>4. Kuchenka rozpoczyna pracę.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eaeaea"/>
                </a:solidFill>
                <a:latin typeface="Verdana"/>
              </a:rPr>
              <a:t>Pamiętaj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eaeaea"/>
                </a:solidFill>
                <a:latin typeface="Verdana"/>
              </a:rPr>
              <a:t>nie wolno stać przy włączonej mikrofalówce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8" name="Picture 5" descr="656882MD11471Gris"/>
          <p:cNvPicPr/>
          <p:nvPr/>
        </p:nvPicPr>
        <p:blipFill>
          <a:blip r:embed="rId1"/>
          <a:stretch/>
        </p:blipFill>
        <p:spPr>
          <a:xfrm>
            <a:off x="395280" y="3284640"/>
            <a:ext cx="490536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832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cc"/>
                </a:solidFill>
                <a:latin typeface="Arial"/>
              </a:rPr>
              <a:t>5. Kuchenka wyłączy się automatycznie i wtedy można wyjąć żywność z kuchenki.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276720" y="2565360"/>
            <a:ext cx="151128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1" name="Picture 5" descr="piekarnik_parowy_Electrolux_aranzacja_2"/>
          <p:cNvPicPr/>
          <p:nvPr/>
        </p:nvPicPr>
        <p:blipFill>
          <a:blip r:embed="rId1"/>
          <a:stretch/>
        </p:blipFill>
        <p:spPr>
          <a:xfrm>
            <a:off x="1619280" y="2109960"/>
            <a:ext cx="56167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0T16:08:32Z</dcterms:created>
  <dc:creator>Dorota</dc:creator>
  <dc:description/>
  <dc:language>en-US</dc:language>
  <cp:lastModifiedBy>Dorota</cp:lastModifiedBy>
  <dcterms:modified xsi:type="dcterms:W3CDTF">2013-08-14T08:49:35Z</dcterms:modified>
  <cp:revision>7</cp:revision>
  <dc:subject/>
  <dc:title>Instrukcja obsługi mikrofalówki</dc:title>
</cp:coreProperties>
</file>